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CBCC-B16F-4C0C-9C43-8A2E5884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161-AE15-4FC6-8490-3F7D6D0D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84E-22D4-4819-99AA-F38E3835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E75-AB85-4B2F-A458-65FE0455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450-2321-4F3D-B200-1FEA0427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335-6CC7-4882-AEF2-D025CF1E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0C4-F315-40DA-B94D-79023CD7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579E-3705-4351-9840-480EBA5C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51F-4DF5-4DD6-A30F-D431A366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217-250D-46DC-A522-70866115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9ED-9EAF-4E6B-8485-9E64DC42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8028-09AB-4DA1-9086-5F46ACCD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1FF7-CD4F-4719-A304-60772DF1BDC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3" descr=""/>
          <p:cNvPicPr/>
          <p:nvPr/>
        </p:nvPicPr>
        <p:blipFill>
          <a:blip r:embed="rId1"/>
          <a:stretch/>
        </p:blipFill>
        <p:spPr>
          <a:xfrm>
            <a:off x="225360" y="1547640"/>
            <a:ext cx="8699400" cy="2140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533520" y="60984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914400" y="1143000"/>
                <a:ext cx="18669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x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e>
                                </m:rad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e>
                                </m:rad>
                                <m:r>
                                  <m:t xml:space="preserve">=</m:t>
                                </m:r>
                                <m:r>
                                  <m:t xml:space="preserve">6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914400" y="1828800"/>
                <a:ext cx="2781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rad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6</m:t>
                            </m:r>
                          </m:num>
                          <m:den/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rad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rad>
                        <m:r>
                          <m:t xml:space="preserve">+</m:t>
                        </m:r>
                        <m:r>
                          <m:t xml:space="preserve">y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ra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/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6"/>
              <p:cNvSpPr txBox="1"/>
              <p:nvPr/>
            </p:nvSpPr>
            <p:spPr>
              <a:xfrm>
                <a:off x="3809880" y="2057400"/>
                <a:ext cx="190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990720" y="2590920"/>
                <a:ext cx="35146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e>
                                </m:d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2</m:t>
                                        </m:r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</m:e>
                                    </m:ra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ra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Rectangle 11"/>
          <p:cNvSpPr/>
          <p:nvPr/>
        </p:nvSpPr>
        <p:spPr>
          <a:xfrm>
            <a:off x="589320" y="358128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0"/>
              <p:cNvSpPr txBox="1"/>
              <p:nvPr/>
            </p:nvSpPr>
            <p:spPr>
              <a:xfrm>
                <a:off x="1143000" y="3962520"/>
                <a:ext cx="19908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1143000" y="4343400"/>
                <a:ext cx="20098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4"/>
              <p:cNvSpPr txBox="1"/>
              <p:nvPr/>
            </p:nvSpPr>
            <p:spPr>
              <a:xfrm>
                <a:off x="1143000" y="4724280"/>
                <a:ext cx="30193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16"/>
              <p:cNvSpPr txBox="1"/>
              <p:nvPr/>
            </p:nvSpPr>
            <p:spPr>
              <a:xfrm>
                <a:off x="1219320" y="5181480"/>
                <a:ext cx="1876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8"/>
              <p:cNvSpPr txBox="1"/>
              <p:nvPr/>
            </p:nvSpPr>
            <p:spPr>
              <a:xfrm>
                <a:off x="990720" y="5791320"/>
                <a:ext cx="41050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⇒</m:t>
                        </m:r>
                        <m:r>
                          <m:t xml:space="preserve">y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"/>
              <p:cNvSpPr txBox="1"/>
              <p:nvPr/>
            </p:nvSpPr>
            <p:spPr>
              <a:xfrm>
                <a:off x="1270080" y="820800"/>
                <a:ext cx="7035840" cy="46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rad>
                        <m:r>
                          <m:t xml:space="preserve">+</m:t>
                        </m:r>
                        <m:r>
                          <m:t xml:space="preserve">y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rad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532080" y="457200"/>
            <a:ext cx="492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steme de dou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cua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 dou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cunosc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57200" y="1371600"/>
            <a:ext cx="631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Franklin Gothic Book"/>
              </a:rPr>
              <a:t>Def.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Franklin Gothic Book"/>
              </a:rPr>
              <a:t>Un sistem de do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ro-RO" sz="1800" spc="-1" strike="noStrike">
                <a:solidFill>
                  <a:srgbClr val="000000"/>
                </a:solidFill>
                <a:latin typeface="Franklin Gothic Book"/>
              </a:rPr>
              <a:t> ecu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1800" spc="-1" strike="noStrike">
                <a:solidFill>
                  <a:srgbClr val="000000"/>
                </a:solidFill>
                <a:latin typeface="Franklin Gothic Book"/>
              </a:rPr>
              <a:t>ii cu do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ro-RO" sz="1800" spc="-1" strike="noStrike">
                <a:solidFill>
                  <a:srgbClr val="000000"/>
                </a:solidFill>
                <a:latin typeface="Franklin Gothic Book"/>
              </a:rPr>
              <a:t> necunoscute are for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"/>
              <p:cNvSpPr txBox="1"/>
              <p:nvPr/>
            </p:nvSpPr>
            <p:spPr>
              <a:xfrm>
                <a:off x="1066680" y="1828800"/>
                <a:ext cx="2148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: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" name="TextBox 9"/>
          <p:cNvSpPr/>
          <p:nvPr/>
        </p:nvSpPr>
        <p:spPr>
          <a:xfrm>
            <a:off x="609480" y="274320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nde  a, b se numesc coeficienţii necunoscutelor , iar  c termenii libe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167760" y="3276720"/>
            <a:ext cx="923328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Def.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e numeşte soluţie a sistemului orice cuplu (s</a:t>
            </a:r>
            <a:r>
              <a:rPr b="0" lang="ro-RO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, s</a:t>
            </a:r>
            <a:r>
              <a:rPr b="0" lang="ro-RO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) care este soluţie pentru fiecare din ecuaţi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istemului.Studiul soluţiilor unui sistem de ecuaţii conduce la trei probl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- existenta soluţiilor (condiţiile în care un sistem admite soluţi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- găsirea unei metode de obţinere a soluţii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- determinarea tuturor soluţii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304920" y="4572000"/>
            <a:ext cx="8686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Un sistem care nu are nici o soluţie se numeşte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incompatibil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. Dacă sistemul are soluţ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e spune că este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ompatibil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determinat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u o soluţie şi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edeterminat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u mai mul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oluţ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ouă sisteme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 sunt echivalente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acă sunt amândouă incompatibile sau sunt amândou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ompatibile şi au aceleaşi soluţ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540720" y="762120"/>
            <a:ext cx="80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Metoda de rezolvar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a unui sistem constă în a înlocui sistemul dat printr-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ou sistem care este echivalent cu primul , dar care poate fi rezolvat mai uşor</a:t>
            </a:r>
            <a:r>
              <a:rPr b="0" lang="ro-RO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379520" y="2133720"/>
            <a:ext cx="702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Transformări asupra ecuaţiilor unui si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O1)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dunarea unei ecuaţii a sistemului la o altă ecuaţie a sistem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O2)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mulţirea ecuaţiilor sistemului prin factori nen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O3)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chimbarea ordinii ecuaţiilor într-un si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685800" y="4495680"/>
            <a:ext cx="546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Metode de rezol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1.Metoda combinaţiilor liniare (metoda reducer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2.Metoda substituţi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2649240" y="380880"/>
            <a:ext cx="30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LICA</a:t>
            </a:r>
            <a:r>
              <a:rPr b="0" lang="ro-RO" sz="4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04480" y="1600200"/>
            <a:ext cx="29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METODA REDUCE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1.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1"/>
              <p:cNvSpPr txBox="1"/>
              <p:nvPr/>
            </p:nvSpPr>
            <p:spPr>
              <a:xfrm>
                <a:off x="882720" y="2819520"/>
                <a:ext cx="28922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→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3"/>
              <p:cNvSpPr txBox="1"/>
              <p:nvPr/>
            </p:nvSpPr>
            <p:spPr>
              <a:xfrm>
                <a:off x="3905280" y="2971800"/>
                <a:ext cx="1647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838080" y="3809880"/>
                <a:ext cx="52293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TextBox 11"/>
          <p:cNvSpPr/>
          <p:nvPr/>
        </p:nvSpPr>
        <p:spPr>
          <a:xfrm>
            <a:off x="1302120" y="5105520"/>
            <a:ext cx="22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ul are sol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7"/>
              <p:cNvSpPr txBox="1"/>
              <p:nvPr/>
            </p:nvSpPr>
            <p:spPr>
              <a:xfrm>
                <a:off x="3429000" y="5105520"/>
                <a:ext cx="7142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687600" y="6858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"/>
              <p:cNvSpPr txBox="1"/>
              <p:nvPr/>
            </p:nvSpPr>
            <p:spPr>
              <a:xfrm>
                <a:off x="914400" y="1219320"/>
                <a:ext cx="4915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914400" y="1981080"/>
                <a:ext cx="30193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TextBox 7"/>
          <p:cNvSpPr/>
          <p:nvPr/>
        </p:nvSpPr>
        <p:spPr>
          <a:xfrm>
            <a:off x="977400" y="304812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istemul are solutia (7;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763920" y="40384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1066680" y="4419720"/>
                <a:ext cx="4886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→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1066680" y="5029200"/>
                <a:ext cx="4905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→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Box 13"/>
          <p:cNvSpPr/>
          <p:nvPr/>
        </p:nvSpPr>
        <p:spPr>
          <a:xfrm>
            <a:off x="816840" y="6019920"/>
            <a:ext cx="28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istemul are solutia (-3;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846720" y="762120"/>
            <a:ext cx="768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ODA SUBSTITU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ocedea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f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scoate o necunoscu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n una din ecu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introduce necunoscuta scoa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a doua ecu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af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cunoscu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 sol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 afl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revine la prima ecu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e af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doua necunoscu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839160" y="35053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"/>
              <p:cNvSpPr txBox="1"/>
              <p:nvPr/>
            </p:nvSpPr>
            <p:spPr>
              <a:xfrm>
                <a:off x="1295280" y="3809880"/>
                <a:ext cx="1562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1295280" y="4419720"/>
                <a:ext cx="47628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1371600" y="4800600"/>
                <a:ext cx="17049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3124080" y="4800600"/>
                <a:ext cx="190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9"/>
              <p:cNvSpPr txBox="1"/>
              <p:nvPr/>
            </p:nvSpPr>
            <p:spPr>
              <a:xfrm>
                <a:off x="3352680" y="4800600"/>
                <a:ext cx="6480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839880" y="7621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"/>
              <p:cNvSpPr txBox="1"/>
              <p:nvPr/>
            </p:nvSpPr>
            <p:spPr>
              <a:xfrm>
                <a:off x="1219320" y="1143000"/>
                <a:ext cx="28954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4572000" y="1676520"/>
                <a:ext cx="251460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650960" y="3352680"/>
                <a:ext cx="2260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den>
                            </m:f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TextBox 10"/>
          <p:cNvSpPr/>
          <p:nvPr/>
        </p:nvSpPr>
        <p:spPr>
          <a:xfrm>
            <a:off x="2073960" y="4191120"/>
            <a:ext cx="4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7"/>
              <p:cNvSpPr txBox="1"/>
              <p:nvPr/>
            </p:nvSpPr>
            <p:spPr>
              <a:xfrm>
                <a:off x="2438280" y="4191120"/>
                <a:ext cx="7239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533520" y="60984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METODE COMB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686880" y="17524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"/>
              <p:cNvSpPr txBox="1"/>
              <p:nvPr/>
            </p:nvSpPr>
            <p:spPr>
              <a:xfrm>
                <a:off x="1066680" y="1752480"/>
                <a:ext cx="14004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TextBox 6"/>
          <p:cNvSpPr/>
          <p:nvPr/>
        </p:nvSpPr>
        <p:spPr>
          <a:xfrm>
            <a:off x="838080" y="2743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981080" y="2743200"/>
                <a:ext cx="685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TextBox 9"/>
          <p:cNvSpPr/>
          <p:nvPr/>
        </p:nvSpPr>
        <p:spPr>
          <a:xfrm>
            <a:off x="289548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ş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3733920" y="2743200"/>
                <a:ext cx="685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8"/>
              <p:cNvSpPr txBox="1"/>
              <p:nvPr/>
            </p:nvSpPr>
            <p:spPr>
              <a:xfrm>
                <a:off x="3505320" y="2895480"/>
                <a:ext cx="19044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0"/>
              <p:cNvSpPr txBox="1"/>
              <p:nvPr/>
            </p:nvSpPr>
            <p:spPr>
              <a:xfrm>
                <a:off x="1054080" y="3200400"/>
                <a:ext cx="4863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2"/>
              <p:cNvSpPr txBox="1"/>
              <p:nvPr/>
            </p:nvSpPr>
            <p:spPr>
              <a:xfrm>
                <a:off x="1066680" y="3809880"/>
                <a:ext cx="29624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⇒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14"/>
          <p:cNvSpPr/>
          <p:nvPr/>
        </p:nvSpPr>
        <p:spPr>
          <a:xfrm>
            <a:off x="1066680" y="411516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vem deci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2286000" y="4267080"/>
                <a:ext cx="771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2286000" y="5257800"/>
                <a:ext cx="4619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9"/>
              <p:cNvSpPr txBox="1"/>
              <p:nvPr/>
            </p:nvSpPr>
            <p:spPr>
              <a:xfrm>
                <a:off x="2286000" y="5867280"/>
                <a:ext cx="1171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1"/>
              <p:cNvSpPr txBox="1"/>
              <p:nvPr/>
            </p:nvSpPr>
            <p:spPr>
              <a:xfrm>
                <a:off x="3581280" y="5867280"/>
                <a:ext cx="876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80880" y="60984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762120" y="1219320"/>
                <a:ext cx="1190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762120" y="1828800"/>
                <a:ext cx="5410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/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838080" y="2514600"/>
                <a:ext cx="36673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⇒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838080" y="3048120"/>
                <a:ext cx="23148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2"/>
              <p:cNvSpPr txBox="1"/>
              <p:nvPr/>
            </p:nvSpPr>
            <p:spPr>
              <a:xfrm>
                <a:off x="838080" y="4114800"/>
                <a:ext cx="12956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20:34:46Z</dcterms:created>
  <dc:creator>*</dc:creator>
  <dc:description/>
  <dc:language>en-US</dc:language>
  <cp:lastModifiedBy>user</cp:lastModifiedBy>
  <dcterms:modified xsi:type="dcterms:W3CDTF">2010-12-09T06:42:56Z</dcterms:modified>
  <cp:revision>14</cp:revision>
  <dc:subject/>
  <dc:title>Sisteme de ecuatii</dc:title>
</cp:coreProperties>
</file>